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CC6-E5B0-47C3-9DEE-1BD027B6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F00-41DA-4CC4-8E36-54DBAFEF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713-D656-43A8-9351-4E141F70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4A9-E307-4FC4-B0C3-C26BFA60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986-39FD-417D-8E87-D0B33965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B37-844A-4D0A-86ED-0C53DD45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437-14C0-46F8-A7D0-2D5A198F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C2C-26BC-446E-9B6D-9D3ED693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4E5-9746-431A-9C98-A5904F77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661-3BF5-4DFE-91AB-977ADD66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A4D-35B7-4E73-B772-5D9B25A4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126-2C44-4177-B1F6-1E1997BE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7FE5-6664-42B3-BE84-8EE36574E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EINU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CHILDR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Botelho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Hospital &amp; Research Center Oak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PRETING THE FIRST AM 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shows normal protein excretion, no further work-up is nee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is abnormal (urine pro/cr ratio &gt;0.2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proteinuria is persistent and not orthostat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A NEPHROLOGIST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IAL DIAGNOSIS OF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31237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S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ux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onephr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ic Lupus Erythema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:  WHAT IT IS NO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bsolutely not Minimal Change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indication for a steroid t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SYMPTOMATIC PROTEINURIA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Albumin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onephritis work-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3, C4, CH5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, ds DNA, ?AN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ORTHOSTATIC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make a definitiv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Biopsy may be indi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arts of some glomeruli have sc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presents as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incide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ren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le Cell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:  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med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scarring related to UTIs in association with vesicoureteral reflu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bilateral, may cause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unilateral may cause asymptomatic proteinuria and hyperte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 year old girl presents for a sports phy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 to have a U/A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15/5/no blood/no sugar/no LE/no nit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00 mg/dL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even if there is not a clear history of U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lateral scarring may result in asymmetry of  renal lengths on 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REENING U/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nly way to detect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effectiven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een first AM v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avoid unnecessary testing or referr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s/signs of glomeruloneph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 will focus on Nephrotic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drom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year old boy with sw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 2-3 weeks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d periorbital swelling one week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x:  Aller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ASE CONTIN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lling worsens and now involves his entir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EX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P= 100/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periorbi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th sounds clear but decreased at the 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ites, but nontender abd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+ pitting edema to t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ate scro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g.= 10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20 R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u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W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t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5 Granular c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d=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trites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WORK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N=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=1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=0.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l=3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=1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g=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3.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=1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arb=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PROTEINURI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VER/EXERCISE/ORTHO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AR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MW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BULOINTERSTITI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NCONI’S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FLOW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URINE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 pro/cr ratio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0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onsider a 24 hour urine collection but decide again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er than 1000 mg/M2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consider in child with anasar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of 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emely unusual to see pulmonary edema with nephrotic syndrome, unl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aggressive management with 25% albu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diagno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album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YOU COULD BE FOO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albuminemia without significant proteinu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 losing ente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albumin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mph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GIVES YOU NEPHROTIC SYNDROME IN A TODDL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proliferative 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BE EVEN MORE SURE THAT THIS IS MC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dden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uria in 25% with MC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reatin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BLOOD WORK TO BE DONE AT 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on varicella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IS NOT MINIMAL CHANGE DISEASE WHE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as an 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uspicious in teen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 WHAT IS MC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ly altered glomerular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 of pod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ound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psing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outgr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 IN CHILDREN IS CHANG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dence of FSGS is on the 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increase of around 300% since the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SGS is much more prevalent in African Amer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MPTOMATIC OR ASYMPTOMATIC PROTEINURIA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elling, 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pains, ras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 U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logic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be steroid resi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cha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ED INCIDENCE OF 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?Related to the obesity epidemic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ssume our patient has minimal change diseas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ed for a renal bio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hat do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 OF 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the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the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medication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O YOU GET EDEMAT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lin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of oncotic pressure is due to albu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lbumin less than 2.5 mg/dL edema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umin infusions as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MEA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:  Low sa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re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uret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UTRITIONAL AD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dded sa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ast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ood in little plastic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 milk and che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gm/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UR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tempting but potentially 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tes intravascular de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AT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ED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INTRAVASCULAR DEPLE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954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renal azot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ubular nec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mb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: entirely asymptomatic with a benign exam.  She has never had a UT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edema with skin breakdown/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NOT TO GIVE AL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2666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PURP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% Albumin 1 gm/kg over 4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ix at hour #2 and upon 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for hypertension and pulmonary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P THE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nisone 2 mg/kg/day (Max 80 mg/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WILL RESPOND WITHIN 2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predictor of MC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NEWS AND BAD NEW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CNS will likely get better with ster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come back again and again and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a risk with intercurrent il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IES TO PREVENT RELAP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ng initial Prednisone therapy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mg/kg/day for 6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per off Prednisone over a 6 week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 relap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r more relapses within a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relapses consecutively on steroids or shortly after sto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sponse to steroids after 4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RE RELAPSES TH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STERO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TIMES STEROIDS AREN’T SO GR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 of chronic steroid therap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GOOD STEROIDS GO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excessive steroids are required to control nephrosis, consider a steroid sparing ag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need to wait for development of steroid side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MMON IS PROTEINURI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10% OF CHILDREN WILL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+ OR GRE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1% WILL HAVE PERSISTENT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ROID SPARING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spo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roli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ICE OF STEROID SPARING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specific tissu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 RENAL BIOP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a steroid sparing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L CHANGE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sparing agent of cho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mg/kg/day over 8 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 carefully for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DE EFFECT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hagic Cyst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good intake of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urine specific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 blood draws to follow AN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r l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TAGE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nticipate a prolonged (one year or more) medication free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ing care of patients with Nephrotic Syndrome is interesting and rewar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too late to do a nephrology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R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the urine dipsticks only measure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urine protein/Cr ratio on a spot urine sample (normal &lt;0.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 hour urine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roteinuria is transient or orthostatic, it is ben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E FOR ORTHOSTATIC PROTEINU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Give patient urine collection cup to take home.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d before 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awakening:  quick sitz b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mid void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igerate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 for U/A and urine pro/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22:19:15Z</dcterms:created>
  <dc:creator>cho</dc:creator>
  <dc:description/>
  <dc:language>en-US</dc:language>
  <cp:lastModifiedBy>cho</cp:lastModifiedBy>
  <dcterms:modified xsi:type="dcterms:W3CDTF">2010-05-26T18:14:10Z</dcterms:modified>
  <cp:revision>8</cp:revision>
  <dc:subject/>
  <dc:title>MECHANISMS OF PROTEINURIA </dc:title>
</cp:coreProperties>
</file>